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865-2475-4ED1-A9F7-6EB89392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685-00DB-4DEF-AF85-E62F096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545-888D-4840-B475-233B3EF5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6CC-3974-4008-9247-F7B3949F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DD8-2634-4225-B7BB-1B8C585D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38F-ACB9-47A1-8B78-C5D1FBC1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749-6697-48A6-A51C-A83DF91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BD4-920B-4E7E-A7C9-EB0315B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28E-C9D1-405D-AD09-64F128D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987-2A18-457E-A9AD-B817CBE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F0F-2F1B-4716-BFD7-714E3DD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B3B-7EE1-4097-9D07-26D18F46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BD82-1ECB-4939-82E8-ADF03371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esktop/Clark_Christy/student_samples/salmon%20newsletter.pub" TargetMode="External"/><Relationship Id="rId3" Type="http://schemas.openxmlformats.org/officeDocument/2006/relationships/hyperlink" Target="file:///../Desktop/Clark_Christy/student_samples/salmon%20newsletter.pub" TargetMode="External"/><Relationship Id="rId4" Type="http://schemas.openxmlformats.org/officeDocument/2006/relationships/hyperlink" Target="file:///../Desktop/Clark_Christy/student_samples/salmon%20newsletter.pub" TargetMode="External"/><Relationship Id="rId5" Type="http://schemas.openxmlformats.org/officeDocument/2006/relationships/hyperlink" Target="file:///../Desktop/Clark_Christy/student_samples/salmon%20newsletter.pub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ntique Olive"/>
              </a:rPr>
              <a:t>Swimming Up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Journe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ne Cl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C Works Teen Parent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5638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 an historical salmon 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nd analyze accua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gres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240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a historical salmon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nd analyz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6553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our role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6880" y="3200040"/>
            <a:ext cx="6019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act our water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verse damage that man has ca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we can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cience careers effect change in our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5232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necessary components of a good salmon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collect data and display it in a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gure the rate of water m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st should the water be moving for good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healthy water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does industry have on habit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mprove water 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salmon life cy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salmon fit historic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reers in science match my intere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Using Project Approaches, Ongoing Assessment, and CFQs in M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880" y="2057040"/>
            <a:ext cx="6477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labo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eers to collect data to understand the health of their water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Cur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e their role in the world  can make it a better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1800" y="2971800"/>
            <a:ext cx="54864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for final projec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ier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33920" y="2895480"/>
            <a:ext cx="4952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bidity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1120" y="3429000"/>
            <a:ext cx="44956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Desktop\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ark_Christy\student_samples\salm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sletter.p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2:21Z</dcterms:created>
  <dc:creator>Christine.Clark</dc:creator>
  <dc:description/>
  <dc:language>en-US</dc:language>
  <cp:lastModifiedBy>Christine.Clark</cp:lastModifiedBy>
  <dcterms:modified xsi:type="dcterms:W3CDTF">2010-08-06T19:20:19Z</dcterms:modified>
  <cp:revision>10</cp:revision>
  <dc:subject/>
  <dc:title>Swimming Upstream</dc:title>
</cp:coreProperties>
</file>